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6706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6708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890280" y="733320"/>
            <a:ext cx="488772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move the slid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77820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3CA17-2A3A-491D-A2C7-0F558C8B270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72A2B-8708-47CF-AA04-D73531CC6B90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1241F-726C-405B-A760-0BB995715025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4DD91-7083-46DD-89A1-BDBCE46A3016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A0906-8E33-485E-A2CF-99F441316BDF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8DCCB-3D32-4524-9E51-D692868B351F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55192-C0BC-4BE0-A279-8DCD6488F6C0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52BC0-3B9F-49AE-A863-6A4D1981908D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30374-BAC5-4AE8-B2ED-2E287C48FE34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63D3F-1EF6-4C73-8DA7-41CF07A65380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334D1-34CD-4BEB-ADDC-CB04CD4FAA9F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ED3BC-9438-4F7B-B726-1BFAD9CCC3A4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0D98B-FB08-41C4-BFE0-D7AD90CD512F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2E66F-6BC1-46C2-BC8E-67196F898181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AF2AA-B005-4E61-93BE-0E36DBE5ECF7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8FB6E-58CD-4449-A3AB-0D2E910F3ECE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A8F78-9C3F-4CEF-9299-F3466CA7AC8D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7015-69EB-4127-A616-F56E6A657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1D20-5B49-4441-A943-C2BCE5A74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0178-47DC-4BD6-8B0E-D77F979B5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8B37-468F-4FB2-BD97-1F3B5420B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7F42A-92F0-4517-AD4F-F14FCB5B8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23AA6-7E41-4D8A-95D7-65E5FCCC9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76736-AD4A-4479-9051-CAD8BB629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114E6-6DC2-4F4C-A20B-03197FF8F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4BEF4-4A92-4482-9FBF-EE9B69498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52086-354A-401E-88A2-C717F9467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E8D31-CEF4-45D2-BE71-5DDEDFAD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BC48-BA15-449C-A81E-AADBBCC5E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34373-E119-43F2-9DF4-05D12E2F6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0B2C9-E278-4408-89B2-605E67ED3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05F9F-4193-44EA-BE52-44B1B7C3C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F8191-754A-44AF-9304-5E2921D4A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D50A8-EC40-4A37-A467-3BA9D4AA6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6F18-205D-492D-9ABF-019DF512A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C819-E8DE-4307-A821-E9093B0B4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1699-6B08-42FA-A7C6-4B79C326A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8A39-E579-436C-ADE5-35FBB7D4E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9FE8-DB44-4635-8456-EDD5D5D2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A8C7-AEEA-4AAD-B880-55FF3365B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404A-1311-4DBE-A263-83A58CB6C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0CA6A-DBD4-4F0D-ADE9-40D1B8FFCBE7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8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" name="Line 9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6" name="Picture 11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6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45" name="Line 7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46" name="Picture 8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51AC1-3DCB-4752-B4D8-98B0FAABA304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cc"/>
                </a:solidFill>
                <a:latin typeface="Times New Roman"/>
              </a:rPr>
              <a:t>Future Supervisory Architecture of the EU</a:t>
            </a:r>
            <a:endParaRPr b="0" lang="en-US" sz="3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4149720"/>
            <a:ext cx="64008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Guido RAVOET </a:t>
            </a:r>
            <a:br>
              <a:rPr sz="2500"/>
            </a:b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BF Secretary Genera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28</a:t>
            </a:r>
            <a:r>
              <a:rPr b="0" lang="en-GB" sz="2500" spc="-1" strike="noStrike" baseline="30000">
                <a:solidFill>
                  <a:srgbClr val="0066cc"/>
                </a:solidFill>
                <a:latin typeface="Times New Roman"/>
              </a:rPr>
              <a:t>th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EBF Associates’ Meeting</a:t>
            </a:r>
            <a:br>
              <a:rPr sz="2500"/>
            </a:b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Monaco, 18 June 2009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1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645BC-710E-471E-9019-0FEABC21A860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European Supervisory Authorities</a:t>
            </a: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: Role</a:t>
            </a: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Ensure a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single rulebook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(through binding technical standards and interpretative guidelines)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Ensure consistent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application of the rules 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by supervisors and consistent supervisory practices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Ensure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common supervisory culture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and consistent supervisory practices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Collect relevant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micro-prudential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information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from national supervisors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5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C132F-54A4-4FEF-A13B-553940F7B829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European Supervisory Authorities</a:t>
            </a: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: Composition</a:t>
            </a: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Composition of the new ESA follows that of the current Lamfalussy Level 3 Committees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Secretariat,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Secretary General and Chair, and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Board where the Commission, the ESRC and the EFTA-EEA countries would be represented.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The resources will need to be substantially increased as compared to the current resources of the Level 3 Committees for the new Authorities to fulfil their roles.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93AB1-1D16-4F9B-9AD5-9B9AB46DCDEE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European Supervisory Authorities</a:t>
            </a: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: Functioning</a:t>
            </a: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Regular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meeting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Decision making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76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66cc"/>
                </a:solidFill>
                <a:latin typeface="Times New Roman"/>
              </a:rPr>
              <a:t>Binding technical standards made with qualified majority voting;</a:t>
            </a:r>
            <a:endParaRPr b="0" lang="en-US" sz="19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76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66cc"/>
                </a:solidFill>
                <a:latin typeface="Times New Roman"/>
              </a:rPr>
              <a:t>Interpretative decisions: simple majority procedure;</a:t>
            </a:r>
            <a:endParaRPr b="0" lang="en-US" sz="19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Budget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 the Authorities have their own budget, which is funded by the national authorities and/or industry. Financial and human resources need to be proportionate to the responsibilities of the Authorities and ensure independence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Accountable 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to Council, Commission and European Parliament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3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BF4BD-D1EF-4005-AE37-5283E172E0AD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ommunication’s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808080"/>
                </a:solidFill>
                <a:latin typeface="Times New Roman"/>
              </a:rPr>
              <a:t>European Systemic Risk Council (ESRC)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808080"/>
                </a:solidFill>
                <a:latin typeface="Times New Roman"/>
              </a:rPr>
              <a:t>European System of Financial Supervisors (ESFS)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5cad"/>
                </a:solidFill>
                <a:latin typeface="Times New Roman"/>
              </a:rPr>
              <a:t>ESRC-ESFS Cooperation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7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AA93E-1DB3-4C98-8F8C-E624F10BC55E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ooperation between ESRC and ESFS</a:t>
            </a: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Cooperation and information sharing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between the macro and micro pillars would be binding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On a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regular basi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, the European Authorities would provide the ESRC with the relevant anonymous data on all financial institutions and markets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On an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ad hoc basi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, the ESRC would launch surveys on specific issues, channelled through the European Supervisory Authorities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For macro-prudential information to feed into the micro-prudential supervisory considerations, representatives of the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ESRC might participate in colleges of supervisors 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as observers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DFA40-96B9-4756-969B-06ACDF19B25B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131640" y="259920"/>
            <a:ext cx="53276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Summary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The Commission proposed creating the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European Systemic Risk Council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(ESRC), the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European System of Financial Supervisor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(ESFS) and a way for the two to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cooperate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The </a:t>
            </a:r>
            <a:r>
              <a:rPr b="1" lang="en-GB" sz="2100" spc="-1" strike="noStrike">
                <a:solidFill>
                  <a:srgbClr val="005cad"/>
                </a:solidFill>
                <a:latin typeface="Times New Roman"/>
              </a:rPr>
              <a:t>EBF broadly supports</a:t>
            </a: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 most of the proposals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Some important </a:t>
            </a:r>
            <a:r>
              <a:rPr b="1" lang="en-GB" sz="2100" spc="-1" strike="noStrike">
                <a:solidFill>
                  <a:srgbClr val="005cad"/>
                </a:solidFill>
                <a:latin typeface="Times New Roman"/>
              </a:rPr>
              <a:t>details still need to be clarified</a:t>
            </a: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Legislative proposals are expected in </a:t>
            </a:r>
            <a:r>
              <a:rPr b="1" lang="en-GB" sz="2100" spc="-1" strike="noStrike">
                <a:solidFill>
                  <a:srgbClr val="005cad"/>
                </a:solidFill>
                <a:latin typeface="Times New Roman"/>
              </a:rPr>
              <a:t>autumn 2009</a:t>
            </a: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6804000" y="1773360"/>
            <a:ext cx="2089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6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D6E94-D25C-4B71-9A1A-0684EAB9DC61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131640" y="259920"/>
            <a:ext cx="53276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5cad"/>
                </a:solidFill>
                <a:latin typeface="Times New Roman"/>
              </a:rPr>
              <a:t>Thank You For Your Attention</a:t>
            </a: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!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0939F-774F-4804-96E9-3FD574E027A7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31640" y="259920"/>
            <a:ext cx="53276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Outline of Presentation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Background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European Systemic Risk Council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5ca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5cad"/>
                </a:solidFill>
                <a:latin typeface="Times New Roman"/>
              </a:rPr>
              <a:t>Role, Composition, Functioning.</a:t>
            </a:r>
            <a:endParaRPr b="0" lang="en-US" sz="19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European System Of Financial Supervisors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5ca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5cad"/>
                </a:solidFill>
                <a:latin typeface="Times New Roman"/>
              </a:rPr>
              <a:t>Role, Composition, Functioning.</a:t>
            </a:r>
            <a:endParaRPr b="0" lang="en-US" sz="19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ESRC-ESFS Cooperation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5ca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Functioning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Conclusion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6804000" y="1773360"/>
            <a:ext cx="2089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6A328-AA1D-46F8-BF15-985BD6F0D0FB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Background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Jacques de Larosière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 expert group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Set up in mid-08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Report delivered Feb-09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EBF 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expert group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Set up in November 2008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Comments &amp; proposals to de Larosière group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Commission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Communication 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on </a:t>
            </a:r>
            <a:r>
              <a:rPr b="0" i="1" lang="en-US" sz="2100" spc="-1" strike="noStrike">
                <a:solidFill>
                  <a:srgbClr val="0066cc"/>
                </a:solidFill>
                <a:latin typeface="Times New Roman"/>
              </a:rPr>
              <a:t>European Financial Supervision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Published on 27-May-09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legislative proposals follow in autumn.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834DD-9D08-4C08-B7CD-D9B03B55383B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ommunication’s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European Systemic Risk Council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(ESRC)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European System of Financial Supervisor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(ESFS)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ESRC-ESFS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Cooperation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1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04935-8FE1-4ED7-9898-EAA6895FF032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uropean Systemic Risk Council: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ole</a:t>
            </a: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ESRC </a:t>
            </a: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role 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is to: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provide early warnings of financial vulnerabilities, and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make recommendations on issues pertaining to macro-financial stability.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It will fulfil its role by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Collecting information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Assessing this information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Issuing risk warnings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Collaborating with IMF, FSB and third countries’ peers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5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05994-D1CC-4C0A-A474-19F7CB3683F8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uropean Systemic Risk Council: Composition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Chair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 ECB President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Vice-Chair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 non-euro-zone governor elected by ESRC members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Member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vice-president of the ECB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National central banks: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3 Chairs of European Supervisory Authorities;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European Commission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Observer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27 national supervisory authorities;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Finance Ministries: Chair of the EFC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 u="sng">
                <a:solidFill>
                  <a:srgbClr val="0066cc"/>
                </a:solidFill>
                <a:uFillTx/>
                <a:latin typeface="Times New Roman"/>
              </a:rPr>
              <a:t>Total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 34 members + 28 observers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5D803-9AB5-4FCB-A953-0BD5865F182B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uropean Systemic Risk Council: Functioning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At least three meetings per year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, which all members and observers are entitled to attend and speak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Decision making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 only members may vote on the basis of a simple majority procedure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Accountable 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to Council and European Parliament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Role of the ECB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 the ECB provides administrative and logistic support as well as technical expertise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3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D07DA-A877-4A70-8B6B-A1AADE3A5675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ommunication’s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808080"/>
                </a:solidFill>
                <a:latin typeface="Times New Roman"/>
              </a:rPr>
              <a:t>European Systemic Risk Council (ESRC)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European System of Financial Supervisors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(ESFS)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808080"/>
                </a:solidFill>
                <a:latin typeface="Times New Roman"/>
              </a:rPr>
              <a:t>ESRC-ESFS Cooperation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29A29-693B-40B8-A0A8-1C0269C484FE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uropean System of 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Financial Supervisor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Two levels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Times New Roman"/>
              </a:rPr>
              <a:t>National level: </a:t>
            </a: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national supervisors and colleges;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Times New Roman"/>
              </a:rPr>
              <a:t>European level</a:t>
            </a: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: new Supervisory Authorities </a:t>
            </a: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(banking, insurance and securities)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National supervisors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 remain responsible for direct day-to-day supervision of individual entities.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Colleges of supervisors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 for cross-border groups supervision: national supervisors +</a:t>
            </a: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a representative of the relevant European Supervisory Authority as observers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7T13:53:41Z</dcterms:created>
  <dc:creator>proskurovska</dc:creator>
  <dc:description/>
  <dc:language>en-US</dc:language>
  <cp:lastModifiedBy> </cp:lastModifiedBy>
  <dcterms:modified xsi:type="dcterms:W3CDTF">2009-06-22T10:13:09Z</dcterms:modified>
  <cp:revision>218</cp:revision>
  <dc:subject/>
  <dc:title>Economic and Banking Sector Situation in the Eastern European Countries</dc:title>
</cp:coreProperties>
</file>